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D47F-C36E-4FEB-8D4B-77CD61D61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6355-1E54-408A-963F-7E507E9F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8767-FD2C-4B5B-93DA-EB5FF862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B6CC-3B9B-42C7-9A2C-5A4744598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3122-7FD5-4FFD-AA24-0CDA585C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929B-5795-49BA-80B6-11242230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5CBF-F0C9-4668-95FC-8767F97B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9399-3B92-4554-92EE-7837603D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00B7-3D2B-4947-96CA-E7F4595F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9242-97CD-4054-AF09-C9934069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FE58-72E8-4EC8-9325-B4E1B319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F05A-BFF7-4C61-8749-31027964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D155-EEAF-48B0-8BAF-F4E9F51B9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The Lord be with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also with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Lift up your hear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lift them to the Lo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Let us give thank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to the Lord our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t is right to gi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ur thanks and prai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0:05:04Z</dcterms:created>
  <dc:creator>Anon Anon</dc:creator>
  <dc:description/>
  <dc:language>en-US</dc:language>
  <cp:lastModifiedBy>Anon Anon</cp:lastModifiedBy>
  <dcterms:modified xsi:type="dcterms:W3CDTF">2005-08-09T05:22:47Z</dcterms:modified>
  <cp:revision>12</cp:revision>
  <dc:subject/>
  <dc:title>PowerPoint Presentation</dc:title>
</cp:coreProperties>
</file>